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3214-6F70-4495-A810-AEC412BA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90BF-678E-4209-9696-EF7B2A3D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81DB7-B505-466D-A8C4-B600E859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16338-4C9B-42E3-BDE2-59924389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1E5B9-5DB9-4A9F-8488-BA597B88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25240-D409-420C-BB7F-8AC499DF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AEAF8-B36E-4248-9287-F8741FFB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ED371-6738-452C-B015-C6B34C3B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9F7F5-75FE-417B-BE8F-F358C950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5A329-9858-4D3B-BE5B-F53C9D1B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2441E-EAFD-4875-8E55-30FD9376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47E35-8F3E-4D08-BC67-BA865AB8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C17-2CAA-4294-83D9-58AEFD5B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5EA57-6226-48E6-9539-60E45AB8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876226-5330-4457-AB60-9E23448B2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3EC66-DAB5-4FA2-B807-DBDBB335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7ED6F-F8B5-4F85-A7A0-274BFC7F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855BF-6145-4F93-889A-0BB3760C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91E4B-213A-44FD-9B55-008F656E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B493D-B13A-4F32-9161-37719B9E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FD1DE-68C9-4239-8C90-DA0AD98E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CD4E3-82D9-4A4E-AC24-E7B5A135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E6C27-3A84-4C56-B667-CB96C2AC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1AD-7084-4870-B716-C3146754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7EEA2-B118-4C56-BE21-B283BFBB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56319-7EB6-4A2C-9344-847C6998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9D7A9-12E0-4CA3-857E-7FE72864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2344F-14F4-4521-AF9B-071FE380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0A8B2-86CD-4890-A0F2-544B5510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3946C-A551-43E4-845A-691FB6F9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E0075-D6A4-4483-A679-19E1993F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B9F9B-16C2-410D-AF30-5FCEE4C3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A8B46-8440-4470-83A6-8D2119C1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B8D6B-4F31-46FB-B5D7-6B65085B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AD45-22A3-47C1-8CD4-692EB51B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8AD35-35D7-42B2-911B-4942B26F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8718F-B3CF-4733-B131-2DAD91AE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14416-39DF-477E-BD73-D19D181C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4EBC7-6857-4079-A11A-062FC3FD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A11DE-53C9-4665-BD9F-DB540A50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61AF6-7289-4A0A-917B-36A5994D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34C320-DF81-4F0B-8BDF-44EF4573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CBFBD-E67E-4D66-9195-56552C14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49FB4-0666-4B0A-833C-C2159077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168F5-429C-42B2-B328-E5052072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86CB-A8F5-4F86-8D8C-86D3C0C2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82113-EE3D-472B-B125-CC218B0F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7A41A-C407-4428-9CC5-F70E50DF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4BCA1-35F4-487E-BDD0-56F55B85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040B5-6243-4CFB-88A8-2806643F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7CAA68-5305-4261-93BC-DAB31F93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097E-7083-46E8-94A9-BEE0144D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5805-B140-4342-8E99-047F072B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0A63-7883-4099-8D88-E66B9565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BA03-EC5B-4059-93C1-E82F3292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27F8-875A-44E3-BB1D-78B24938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C67-514E-43F3-9D62-7FAD9494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1712-29EB-4C1C-8B1F-E2A65B48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B0C8-1149-4706-9ECA-23F313D6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EEDE-507D-4378-871D-5B869876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F531-5531-46F7-A317-537B97C6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78EE-0E61-4E36-924E-FC4039F2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9F622-FA0E-49A5-A8B9-FD229807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EE01E-3654-41BD-B6D8-7DCACF31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BA53D-E4B7-4377-BDF0-3DFE3B12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8AF12-28CB-4509-8F6B-BF319AE7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F6535-90B4-4011-B6D6-2A9465A3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E46E-428B-48FF-8975-32792C62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0ED38-4929-4E0A-A38B-4437C62C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18E9B-C224-4BDE-8CC9-E7871A4A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7F5C3-35A2-403B-9DC1-7D84E070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07E0C-453C-4E61-AA50-26E23181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2D4F4-2DEF-42E9-A609-0C6C6C73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18E0D-EF91-4F5C-9BA1-13A2638E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D6873-BA47-4FD8-8821-577CFD57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9024D-6261-449C-AEAF-CF8549CE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9CB66-1961-421F-9D34-385084F5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75859-7CB0-4F8E-A049-A26513BA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F2F-8B19-419A-B834-05CC12FB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A3A2F-4764-425C-8AD2-99DBCEE6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61EFF-FF1F-4BFD-896A-6AD32127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CCFF1-5369-4851-A20E-0421C308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DA28A-49EB-485A-9013-7220B333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18087-077A-4438-BF03-E0383B06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A3219-559A-4468-A810-DEBED194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AC366-A1B8-49C3-8E1E-14956E90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EFA29-D467-4AE3-88E3-3414242E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3BC3A-8678-4BE2-9DA7-13F61EE98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D7E5F-540F-4E16-AA2D-D83C3A3A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F1F1-2A06-42B5-B99A-1BC178E8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66831-D15C-4801-B43F-8CBA868C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BC06F-56BC-484A-BA0B-C63A306B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24E56-2F2A-4AC3-B3E1-D35836A2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5134F-2784-447C-B852-16FFCBB0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4F381-1B3B-4490-9064-F87CEC4C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C7C7B-B53E-41BD-AA87-69C2027F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57BDB-98F0-418E-975D-8BBD2E20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71573-BAEA-4E9C-822E-516C1B29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3F038-B73E-4D60-8E80-99DE2F88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E4951-B54D-4B2A-88CA-40D0B611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AC2-9310-4F48-82C4-F05EE962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29D8E-1F85-4EC9-A16A-2A9E2DEF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3E9B3-EAC1-4FC3-A7FC-25A8672B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E4D19-1AE2-40FE-AFBB-286B52C0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E1C92-BD27-4AD1-B82B-17D269B2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41AFE-C153-47FC-81F3-7882380D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DBC16-7AE3-4EDF-952D-498226D4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D1F25-97B3-4719-89CF-6DC60676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E5660-2EF4-41FF-A656-FACB19B3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D5FEA-0ADC-48D1-AE08-EF8D553C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43BA1-071A-4AB4-9735-EBC34B96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1B15-6255-46ED-8B94-154022A1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AD487-D0B7-4BA1-B3F1-3D57684E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E32FC-8EF9-4C00-A9A8-97C29656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7167D-919C-4EF2-9799-03C9FABE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3E126-91A5-4956-8E7A-B792BDBD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319E3-79B9-4BC0-903B-CC096077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32D35-931E-4EA8-889A-6CA74417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BE3AF-0ADB-4B13-9B14-45AE71D9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474AF-DC5B-4106-A6AB-BFBDD0AE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854BA-4686-4AC7-9666-BB055616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31AA6-70D7-4563-A6D8-B1C5C93C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081A-31F1-48C9-A58C-639B8B25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3EB6C-5630-4EA8-ADE0-DBABEE82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E4053-619A-4C17-8426-77B6F6FD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7124D-386B-4462-A476-F19267BF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D6A30-0DEC-489F-9E1D-071BD009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1121C-99E9-4EB0-BC7A-A7A19766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969B0-7F3B-4C4A-879F-49E4E80E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0EA4D-BBFD-4B9D-B25E-7FDAB1C9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BB742-7629-4238-8216-1D0C762D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A5D6E-9D70-47EC-8BC5-57F426DE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9AC71-D581-4230-BBD2-5408DF0A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7DC5-A666-4F24-ACB4-4CA8E6CD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C7BD2-D600-4356-9175-064C3272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7FF48-636A-4B6A-B51F-DE4F4DC1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A8303-F09D-4BFB-BA8E-DEB88ED0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22712-B38D-4BF2-BE2F-805EA642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CD034-5C38-432C-9550-EBD4243F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CF1B7-0D65-41BB-9543-E4376BCF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E49E6-E8A4-40C0-9422-BA7EE207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8DDC6-068C-4653-9E93-CAFF85D8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D2012-AE76-4EA7-B02B-75D5274D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D0B9C-E6BC-4445-AE16-81680675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0BFD-8678-4606-864B-FB1892F66B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2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58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58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85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58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58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88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58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59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91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592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159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59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595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596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1597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1598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99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00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601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02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03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604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05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06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1607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08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09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1610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11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12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613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14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15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1616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17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18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1619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20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21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1622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2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24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1625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26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27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1628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29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30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1631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32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33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634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35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36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637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38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39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640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41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42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643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44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45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646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47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48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649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50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51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1652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53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54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655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56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57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658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59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66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661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1662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1663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64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65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666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67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68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669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70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71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1672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73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74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1675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76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77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1678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79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80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681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82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83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684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85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86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1687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88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89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690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91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92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1693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94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695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96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9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98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699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0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0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02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03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04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05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0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07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08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09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10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1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1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13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14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15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16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CDCF-4EE0-420E-A0BB-33783FE562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8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75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6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61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76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6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64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76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76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67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768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176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77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771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772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1773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1774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75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76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777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78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79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780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81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82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1783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84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85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1786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87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88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789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90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91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1792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93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94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1795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96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97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1798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9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00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1801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02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03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1804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05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06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1807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08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09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810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11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12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813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14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15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816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17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18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819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20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21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822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23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24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825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26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27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1828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29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30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831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32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33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834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35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83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837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1838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1839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0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41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842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3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44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845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6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47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1848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9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0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1851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52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3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1854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55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6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857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58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9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860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61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62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1863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64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65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866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67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68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1869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70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871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72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7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74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75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7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7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78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79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80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81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8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83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84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85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86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8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8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89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90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91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92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6F24-D78D-477E-A063-F284A628B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4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93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93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937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93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93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940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94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94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943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944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194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94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947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948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1949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1950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51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52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53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54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55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956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57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58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1959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60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61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1962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63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64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965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66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67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1968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69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70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1971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72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73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1974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7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76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1977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78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79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1980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81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82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1983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84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85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986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87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88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989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90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91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992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93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94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995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96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97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998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99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00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001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02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03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2004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05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06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2007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08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09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2010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11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01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013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2014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2015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16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17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018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19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20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021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2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23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2024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5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26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2027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8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29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2030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31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2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033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34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5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2036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37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8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2039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40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41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2042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43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44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2045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46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047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48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4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0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1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4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5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6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7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59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0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1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2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5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6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7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068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1B6D-2BA2-4D9B-A213-1BCCFCA3C6E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64080"/>
              <a:ext cx="945720" cy="709920"/>
              <a:chOff x="3484080" y="96408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6408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7584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3600"/>
                  <a:ext cx="3599280" cy="2652480"/>
                  <a:chOff x="3735720" y="1263600"/>
                  <a:chExt cx="3599280" cy="26524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3600"/>
                    <a:ext cx="3599280" cy="2652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080" y="2320560"/>
                    <a:ext cx="2559600" cy="2741040"/>
                    <a:chOff x="5761080" y="2320560"/>
                    <a:chExt cx="2559600" cy="27410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600" y="3018600"/>
                      <a:ext cx="212904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3800"/>
                    <a:ext cx="3039480" cy="2528640"/>
                    <a:chOff x="5787720" y="2143800"/>
                    <a:chExt cx="3039480" cy="25286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7160"/>
                      <a:ext cx="223560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16640"/>
                      <a:ext cx="120096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58840"/>
                    <a:ext cx="3098160" cy="1995120"/>
                    <a:chOff x="5774760" y="2058840"/>
                    <a:chExt cx="3098160" cy="199512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460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180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560" y="1967400"/>
                    <a:ext cx="3134520" cy="1607760"/>
                    <a:chOff x="5767560" y="1967400"/>
                    <a:chExt cx="3134520" cy="160776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0880" y="2276640"/>
                      <a:ext cx="206748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020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160"/>
                    <a:ext cx="2939040" cy="1002960"/>
                    <a:chOff x="5805720" y="1874160"/>
                    <a:chExt cx="2939040" cy="100296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2640" y="2000160"/>
                      <a:ext cx="190368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0752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2240"/>
                    <a:ext cx="2658960" cy="443880"/>
                    <a:chOff x="5851080" y="1812240"/>
                    <a:chExt cx="2658960" cy="44388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482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3760"/>
                      <a:ext cx="9295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0320"/>
                    <a:ext cx="2364120" cy="785520"/>
                    <a:chOff x="5788440" y="130032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0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8888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5640" y="2472120"/>
                    <a:ext cx="2555640" cy="2739600"/>
                    <a:chOff x="2645640" y="2472120"/>
                    <a:chExt cx="2555640" cy="273960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54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3360"/>
                      <a:ext cx="1140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3760"/>
                    <a:ext cx="3039480" cy="2532960"/>
                    <a:chOff x="2084040" y="2363760"/>
                    <a:chExt cx="3039480" cy="253296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920" y="2966400"/>
                      <a:ext cx="223416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39480"/>
                      <a:ext cx="1199880" cy="67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77360"/>
                    <a:ext cx="3097080" cy="1992240"/>
                    <a:chOff x="2040120" y="227736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31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578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3760"/>
                    <a:ext cx="3134520" cy="1608840"/>
                    <a:chOff x="2010960" y="2183760"/>
                    <a:chExt cx="3134520" cy="16088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30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8800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560" y="2092680"/>
                    <a:ext cx="2937240" cy="1002600"/>
                    <a:chOff x="2167560" y="2092680"/>
                    <a:chExt cx="29372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186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560" y="242568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160"/>
                    <a:ext cx="2658600" cy="448920"/>
                    <a:chOff x="2403720" y="202716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280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832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17760"/>
                    <a:ext cx="2363760" cy="788040"/>
                    <a:chOff x="2760840" y="1517760"/>
                    <a:chExt cx="2363760" cy="78804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3520" y="186804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06320"/>
                      <a:ext cx="816120" cy="42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3000"/>
                    <a:ext cx="2323080" cy="1083240"/>
                    <a:chOff x="2887920" y="1233000"/>
                    <a:chExt cx="2323080" cy="108324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3600" y="178344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66920"/>
                      <a:ext cx="81612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28360"/>
                    <a:ext cx="2170080" cy="1505520"/>
                    <a:chOff x="3161160" y="828360"/>
                    <a:chExt cx="2170080" cy="15055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988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600"/>
                    <a:ext cx="1987200" cy="1828080"/>
                    <a:chOff x="3437640" y="435600"/>
                    <a:chExt cx="1987200" cy="18280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616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000" y="665640"/>
                      <a:ext cx="8283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31640" y="322560"/>
                    <a:ext cx="1458360" cy="1898280"/>
                    <a:chOff x="4031640" y="322560"/>
                    <a:chExt cx="1458360" cy="18982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5840" y="1441800"/>
                      <a:ext cx="13600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6680" y="533520"/>
                      <a:ext cx="72936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4280" cy="1948320"/>
                    <a:chOff x="4447800" y="245520"/>
                    <a:chExt cx="1124280" cy="19483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2560"/>
                      <a:ext cx="13096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6080"/>
                    <a:ext cx="2318760" cy="1113840"/>
                    <a:chOff x="5661720" y="946080"/>
                    <a:chExt cx="2318760" cy="11138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1812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432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8840"/>
                    <a:ext cx="2201400" cy="1452600"/>
                    <a:chOff x="5529600" y="618840"/>
                    <a:chExt cx="220140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308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352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052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136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60040" y="269280"/>
                    <a:ext cx="1190160" cy="1891440"/>
                    <a:chOff x="5360040" y="269280"/>
                    <a:chExt cx="1190160" cy="1891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91840" y="1408680"/>
                      <a:ext cx="13078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5280" y="486000"/>
                      <a:ext cx="70416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320" y="379440"/>
                    <a:ext cx="1890000" cy="1795680"/>
                    <a:chOff x="5350320" y="379440"/>
                    <a:chExt cx="1890000" cy="179568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880" y="1377360"/>
                      <a:ext cx="142776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76360"/>
                      <a:ext cx="76752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520"/>
                    <a:ext cx="425160" cy="1793520"/>
                    <a:chOff x="5459040" y="290520"/>
                    <a:chExt cx="425160" cy="179352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108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040" y="531360"/>
                      <a:ext cx="63072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7200"/>
                    <a:ext cx="2194200" cy="3004560"/>
                    <a:chOff x="3063240" y="2527200"/>
                    <a:chExt cx="2194200" cy="300456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304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8964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800" y="2642400"/>
                    <a:ext cx="1481400" cy="3007440"/>
                    <a:chOff x="3790800" y="2642400"/>
                    <a:chExt cx="1481400" cy="30074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34040"/>
                      <a:ext cx="196812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560" y="4745160"/>
                      <a:ext cx="10558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3600" y="2690640"/>
                    <a:ext cx="874080" cy="2936880"/>
                    <a:chOff x="4503600" y="2690640"/>
                    <a:chExt cx="874080" cy="293688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77000" y="3479760"/>
                      <a:ext cx="1893960" cy="34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2120" y="4805640"/>
                      <a:ext cx="1013040" cy="54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9360" y="2478960"/>
                    <a:ext cx="2279160" cy="2955600"/>
                    <a:chOff x="5679360" y="2478960"/>
                    <a:chExt cx="2279160" cy="29556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47560"/>
                      <a:ext cx="21290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604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240" y="2589840"/>
                    <a:ext cx="1758240" cy="3032640"/>
                    <a:chOff x="5646240" y="2589840"/>
                    <a:chExt cx="175824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2840" y="3393000"/>
                      <a:ext cx="203652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8520"/>
                      <a:ext cx="1089720" cy="57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06120"/>
                    <a:ext cx="1229040" cy="2990520"/>
                    <a:chOff x="5576040" y="2706120"/>
                    <a:chExt cx="122904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120" y="3538800"/>
                      <a:ext cx="1974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880" y="487980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080"/>
                    <a:ext cx="696600" cy="2783880"/>
                    <a:chOff x="5521320" y="2836080"/>
                    <a:chExt cx="696600" cy="27838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5640" y="3603960"/>
                      <a:ext cx="18144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576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4040" y="2881800"/>
                    <a:ext cx="664560" cy="2720160"/>
                    <a:chOff x="4964040" y="2881800"/>
                    <a:chExt cx="664560" cy="272016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3480" y="3661200"/>
                      <a:ext cx="17762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7800" y="4928040"/>
                      <a:ext cx="95148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6800"/>
                <a:ext cx="6732720" cy="4526280"/>
                <a:chOff x="2174400" y="676800"/>
                <a:chExt cx="6732720" cy="452628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6800"/>
                  <a:ext cx="6732720" cy="4526280"/>
                  <a:chOff x="2174400" y="676800"/>
                  <a:chExt cx="6732720" cy="452628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032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764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672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2760"/>
                    <a:ext cx="3133440" cy="2940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6800"/>
                    <a:ext cx="2282760" cy="284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020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2872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8720"/>
                  <a:ext cx="546120" cy="10342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53120"/>
              <a:ext cx="6411960" cy="4711680"/>
              <a:chOff x="2343960" y="753120"/>
              <a:chExt cx="6411960" cy="47116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7708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621520"/>
                <a:ext cx="2617200" cy="28432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63600"/>
                <a:ext cx="1534320" cy="29361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79840"/>
                <a:ext cx="2930760" cy="29361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92040"/>
                <a:ext cx="46980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78360"/>
                <a:ext cx="123804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8920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8836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26480"/>
                <a:ext cx="133848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39280"/>
                <a:ext cx="85824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50000"/>
                <a:ext cx="124200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51360"/>
                <a:ext cx="18723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53120"/>
                <a:ext cx="819000" cy="1769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9564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771E-98C3-46E8-A3C9-122C72993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35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5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5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35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5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5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35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5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5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360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36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6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36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64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365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366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7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36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37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37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7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378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9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8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3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384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5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6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387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8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39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39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39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39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40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40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40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1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41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1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41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1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41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1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42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42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42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2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42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43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43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3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3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43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3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3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43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3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39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440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1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2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443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5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446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7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44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5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45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5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4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455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56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45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5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0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461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2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46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6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6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6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6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6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6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7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8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B5B8-5D18-4B7D-9D2B-DCCF4094E5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52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52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529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53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3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532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53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53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535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536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53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53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540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541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542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43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54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4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54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4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50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551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52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53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554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55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56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557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5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59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560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1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62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563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4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65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566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68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569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70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1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572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73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4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575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76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7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78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7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8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8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8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8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8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86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587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88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8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59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9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59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95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596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7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98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599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00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1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602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03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60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60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606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607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08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61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1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1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61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1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15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616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17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18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619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0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21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622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3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2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62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27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628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9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0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631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32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3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634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35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6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637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38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63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40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4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42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43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4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4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4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47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48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49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5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51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52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5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5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5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5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57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58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5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6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39C7-E443-46C0-ABEC-54D7444181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70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0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05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0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0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08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0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1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711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12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71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1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15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716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717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718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9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0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721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22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3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724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25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6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727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28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9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730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31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32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733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34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35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736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37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38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739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0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41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742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44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745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6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47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748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9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0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751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52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3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754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55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6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757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58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9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760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61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62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763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64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65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766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67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68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769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0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71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72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3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74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75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6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77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78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9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81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782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783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84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85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786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87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88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789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90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91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792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93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94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795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96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97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798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99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00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801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02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03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804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05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06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807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08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09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810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11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12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813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14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815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16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1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18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19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2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3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4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5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7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8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29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30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3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3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33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34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35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36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7292-47C9-443B-A035-94A114091B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87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8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81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88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8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84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88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8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887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888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88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89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891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892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893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894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95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6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897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98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9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900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01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02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903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04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05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906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07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08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909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0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11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912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3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14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915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6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17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918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0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921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22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3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924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25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6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927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28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9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930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31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32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33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34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35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36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37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38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939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0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41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942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3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44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945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6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47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948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9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0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951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52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3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954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55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95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957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958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959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60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61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962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63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64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965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66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67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968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69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70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971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2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73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974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5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76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77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8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79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980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81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2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983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84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5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986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87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8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989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90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991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92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9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94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95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9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9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98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99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00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01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0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03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04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05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06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0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0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09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10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11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12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C591-1414-4597-AB90-69A768C28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05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5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57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5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5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60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6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6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063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64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106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06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067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068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1069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1070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71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2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073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74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5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076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77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8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1079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80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81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1082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83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84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085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86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87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1088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89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90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1091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2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93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1094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96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1097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8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99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1100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01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2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1103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04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5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106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07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8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109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0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11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112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3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14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115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6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17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118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9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20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121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2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23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1124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5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26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127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8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29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130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1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13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133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1134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1135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6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37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138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9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40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141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42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43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1144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45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46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1147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48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49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1150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51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52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153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54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55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156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57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58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1159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60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61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162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63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64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1165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66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67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8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0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1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4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5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6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7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9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0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1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2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5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6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7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8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6FE6-B9AA-4A45-890F-D72AF1586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23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3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23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3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23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3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240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124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4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24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244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1245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1246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47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4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24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5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5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25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5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5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125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5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57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1258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59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6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26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6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63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1264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65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66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1267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68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6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127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7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7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127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7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7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127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7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7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127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8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8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28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8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8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28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8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8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28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8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9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29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9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9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29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9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9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29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9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9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130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0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0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30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0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0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30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0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30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0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131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131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1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1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31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1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1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31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1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19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1320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21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22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1323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24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25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1326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27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2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32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3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3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33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3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34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1335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36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3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33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3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40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1341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42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34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5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5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5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5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5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5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5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5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5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5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6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6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6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6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6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EB48-DCB3-46DA-96D0-8CDF4F3ECD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6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40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40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09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41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1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12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41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1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415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416" name="Group 12"/>
            <p:cNvGrpSpPr/>
            <p:nvPr/>
          </p:nvGrpSpPr>
          <p:grpSpPr>
            <a:xfrm>
              <a:off x="6274080" y="-21240"/>
              <a:ext cx="2869560" cy="2268360"/>
              <a:chOff x="6274080" y="-21240"/>
              <a:chExt cx="2869560" cy="2268360"/>
            </a:xfrm>
          </p:grpSpPr>
          <p:grpSp>
            <p:nvGrpSpPr>
              <p:cNvPr id="141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1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41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20" name="Group 16"/>
              <p:cNvGrpSpPr/>
              <p:nvPr/>
            </p:nvGrpSpPr>
            <p:grpSpPr>
              <a:xfrm>
                <a:off x="6274080" y="-21240"/>
                <a:ext cx="2866320" cy="2268360"/>
                <a:chOff x="6274080" y="-21240"/>
                <a:chExt cx="2866320" cy="2268360"/>
              </a:xfrm>
            </p:grpSpPr>
            <p:grpSp>
              <p:nvGrpSpPr>
                <p:cNvPr id="1421" name="Group 17"/>
                <p:cNvGrpSpPr/>
                <p:nvPr/>
              </p:nvGrpSpPr>
              <p:grpSpPr>
                <a:xfrm>
                  <a:off x="7833240" y="843120"/>
                  <a:ext cx="1063440" cy="1141560"/>
                  <a:chOff x="7833240" y="843120"/>
                  <a:chExt cx="1063440" cy="1141560"/>
                </a:xfrm>
              </p:grpSpPr>
              <p:sp>
                <p:nvSpPr>
                  <p:cNvPr id="1422" name="Freeform 18"/>
                  <p:cNvSpPr/>
                  <p:nvPr/>
                </p:nvSpPr>
                <p:spPr>
                  <a:xfrm rot="2711400">
                    <a:off x="7759080" y="1134360"/>
                    <a:ext cx="8884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23" name="Freeform 19"/>
                  <p:cNvSpPr/>
                  <p:nvPr/>
                </p:nvSpPr>
                <p:spPr>
                  <a:xfrm rot="2711400">
                    <a:off x="8408160" y="1604880"/>
                    <a:ext cx="46908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2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42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2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2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42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2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30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1431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32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33" name="Group 29"/>
                <p:cNvGrpSpPr/>
                <p:nvPr/>
              </p:nvGrpSpPr>
              <p:grpSpPr>
                <a:xfrm>
                  <a:off x="7851960" y="657720"/>
                  <a:ext cx="1224000" cy="417240"/>
                  <a:chOff x="7851960" y="657720"/>
                  <a:chExt cx="1224000" cy="417240"/>
                </a:xfrm>
              </p:grpSpPr>
              <p:sp>
                <p:nvSpPr>
                  <p:cNvPr id="1434" name="Freeform 30"/>
                  <p:cNvSpPr/>
                  <p:nvPr/>
                </p:nvSpPr>
                <p:spPr>
                  <a:xfrm rot="463200">
                    <a:off x="7859520" y="709920"/>
                    <a:ext cx="79200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35" name="Freeform 31"/>
                  <p:cNvSpPr/>
                  <p:nvPr/>
                </p:nvSpPr>
                <p:spPr>
                  <a:xfrm rot="463200">
                    <a:off x="8636040" y="799560"/>
                    <a:ext cx="42516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36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437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3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39" name="Group 35"/>
                <p:cNvGrpSpPr/>
                <p:nvPr/>
              </p:nvGrpSpPr>
              <p:grpSpPr>
                <a:xfrm>
                  <a:off x="7845840" y="419760"/>
                  <a:ext cx="983880" cy="326520"/>
                  <a:chOff x="7845840" y="419760"/>
                  <a:chExt cx="983880" cy="326520"/>
                </a:xfrm>
              </p:grpSpPr>
              <p:sp>
                <p:nvSpPr>
                  <p:cNvPr id="1440" name="Freeform 36"/>
                  <p:cNvSpPr/>
                  <p:nvPr/>
                </p:nvSpPr>
                <p:spPr>
                  <a:xfrm rot="20797200">
                    <a:off x="7849440" y="567360"/>
                    <a:ext cx="632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41" name="Freeform 37"/>
                  <p:cNvSpPr/>
                  <p:nvPr/>
                </p:nvSpPr>
                <p:spPr>
                  <a:xfrm rot="20797200">
                    <a:off x="8476200" y="456120"/>
                    <a:ext cx="3373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42" name="Group 38"/>
                <p:cNvGrpSpPr/>
                <p:nvPr/>
              </p:nvGrpSpPr>
              <p:grpSpPr>
                <a:xfrm>
                  <a:off x="6539040" y="906840"/>
                  <a:ext cx="1062000" cy="1141560"/>
                  <a:chOff x="6539040" y="906840"/>
                  <a:chExt cx="1062000" cy="1141560"/>
                </a:xfrm>
              </p:grpSpPr>
              <p:sp>
                <p:nvSpPr>
                  <p:cNvPr id="1443" name="Freeform 39"/>
                  <p:cNvSpPr/>
                  <p:nvPr/>
                </p:nvSpPr>
                <p:spPr>
                  <a:xfrm flipH="1" rot="18888600">
                    <a:off x="6795360" y="1195920"/>
                    <a:ext cx="88020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44" name="Freeform 40"/>
                  <p:cNvSpPr/>
                  <p:nvPr/>
                </p:nvSpPr>
                <p:spPr>
                  <a:xfrm flipH="1" rot="18888600">
                    <a:off x="6558840" y="1664640"/>
                    <a:ext cx="47160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45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1446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4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48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1449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50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51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1452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53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54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1455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56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57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458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5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6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46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6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6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46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6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66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1467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68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6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47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7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7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47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7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75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1476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77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78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1479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80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81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1482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83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48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48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1486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1487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88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8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49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9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9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49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9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95" name="Group 91"/>
                <p:cNvGrpSpPr/>
                <p:nvPr/>
              </p:nvGrpSpPr>
              <p:grpSpPr>
                <a:xfrm>
                  <a:off x="6711120" y="930960"/>
                  <a:ext cx="916560" cy="1247760"/>
                  <a:chOff x="6711120" y="930960"/>
                  <a:chExt cx="916560" cy="1247760"/>
                </a:xfrm>
              </p:grpSpPr>
              <p:sp>
                <p:nvSpPr>
                  <p:cNvPr id="1496" name="Freeform 92"/>
                  <p:cNvSpPr/>
                  <p:nvPr/>
                </p:nvSpPr>
                <p:spPr>
                  <a:xfrm flipH="1" rot="18336000">
                    <a:off x="6853680" y="1261080"/>
                    <a:ext cx="8953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97" name="Freeform 93"/>
                  <p:cNvSpPr/>
                  <p:nvPr/>
                </p:nvSpPr>
                <p:spPr>
                  <a:xfrm flipH="1" rot="18336000">
                    <a:off x="6713280" y="1787400"/>
                    <a:ext cx="4741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98" name="Group 94"/>
                <p:cNvGrpSpPr/>
                <p:nvPr/>
              </p:nvGrpSpPr>
              <p:grpSpPr>
                <a:xfrm>
                  <a:off x="7014600" y="979560"/>
                  <a:ext cx="618840" cy="1247760"/>
                  <a:chOff x="7014600" y="979560"/>
                  <a:chExt cx="618840" cy="1247760"/>
                </a:xfrm>
              </p:grpSpPr>
              <p:sp>
                <p:nvSpPr>
                  <p:cNvPr id="1499" name="Freeform 95"/>
                  <p:cNvSpPr/>
                  <p:nvPr/>
                </p:nvSpPr>
                <p:spPr>
                  <a:xfrm flipH="1" rot="17543400">
                    <a:off x="6986520" y="1312560"/>
                    <a:ext cx="828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00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01" name="Group 97"/>
                <p:cNvGrpSpPr/>
                <p:nvPr/>
              </p:nvGrpSpPr>
              <p:grpSpPr>
                <a:xfrm>
                  <a:off x="7312320" y="1001160"/>
                  <a:ext cx="364320" cy="1217520"/>
                  <a:chOff x="7312320" y="1001160"/>
                  <a:chExt cx="364320" cy="1217520"/>
                </a:xfrm>
              </p:grpSpPr>
              <p:sp>
                <p:nvSpPr>
                  <p:cNvPr id="1502" name="Freeform 98"/>
                  <p:cNvSpPr/>
                  <p:nvPr/>
                </p:nvSpPr>
                <p:spPr>
                  <a:xfrm flipH="1" rot="16870800">
                    <a:off x="7135920" y="1328400"/>
                    <a:ext cx="78660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03" name="Freeform 99"/>
                  <p:cNvSpPr/>
                  <p:nvPr/>
                </p:nvSpPr>
                <p:spPr>
                  <a:xfrm flipH="1" rot="16870800">
                    <a:off x="7250760" y="187848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0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50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0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07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508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09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10" name="Group 106"/>
                <p:cNvGrpSpPr/>
                <p:nvPr/>
              </p:nvGrpSpPr>
              <p:grpSpPr>
                <a:xfrm>
                  <a:off x="7756560" y="1005120"/>
                  <a:ext cx="511200" cy="1242000"/>
                  <a:chOff x="7756560" y="1005120"/>
                  <a:chExt cx="511200" cy="1242000"/>
                </a:xfrm>
              </p:grpSpPr>
              <p:sp>
                <p:nvSpPr>
                  <p:cNvPr id="1511" name="Freeform 107"/>
                  <p:cNvSpPr/>
                  <p:nvPr/>
                </p:nvSpPr>
                <p:spPr>
                  <a:xfrm rot="4286400">
                    <a:off x="7534440" y="1353240"/>
                    <a:ext cx="825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12" name="Freeform 108"/>
                  <p:cNvSpPr/>
                  <p:nvPr/>
                </p:nvSpPr>
                <p:spPr>
                  <a:xfrm rot="4286400">
                    <a:off x="7882200" y="1906560"/>
                    <a:ext cx="4417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13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514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15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16" name="Group 112"/>
                <p:cNvGrpSpPr/>
                <p:nvPr/>
              </p:nvGrpSpPr>
              <p:grpSpPr>
                <a:xfrm>
                  <a:off x="7500240" y="1077840"/>
                  <a:ext cx="277200" cy="1131120"/>
                  <a:chOff x="7500240" y="1077840"/>
                  <a:chExt cx="277200" cy="1131120"/>
                </a:xfrm>
              </p:grpSpPr>
              <p:sp>
                <p:nvSpPr>
                  <p:cNvPr id="1517" name="Freeform 113"/>
                  <p:cNvSpPr/>
                  <p:nvPr/>
                </p:nvSpPr>
                <p:spPr>
                  <a:xfrm rot="5755200">
                    <a:off x="7318440" y="1405440"/>
                    <a:ext cx="74556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18" name="Freeform 114"/>
                  <p:cNvSpPr/>
                  <p:nvPr/>
                </p:nvSpPr>
                <p:spPr>
                  <a:xfrm rot="5755200">
                    <a:off x="7396200" y="1926720"/>
                    <a:ext cx="3992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51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0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2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3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7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8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29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3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31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32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3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3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3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3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37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38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3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54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C7D7-51C9-428D-B701-246ECD60AE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nit 2: The Road to the U.S. Constitu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Rights of British Citizen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ther Developmen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wo other important traditions developed gradually in England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se included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arliament and Common La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34" name="Picture 4" descr=""/>
          <p:cNvPicPr/>
          <p:nvPr/>
        </p:nvPicPr>
        <p:blipFill>
          <a:blip r:embed="rId1"/>
          <a:stretch/>
        </p:blipFill>
        <p:spPr>
          <a:xfrm>
            <a:off x="685800" y="4311720"/>
            <a:ext cx="3495600" cy="2317680"/>
          </a:xfrm>
          <a:prstGeom prst="rect">
            <a:avLst/>
          </a:prstGeom>
          <a:ln w="0">
            <a:noFill/>
          </a:ln>
        </p:spPr>
      </p:pic>
      <p:pic>
        <p:nvPicPr>
          <p:cNvPr id="2135" name="Picture 5" descr=""/>
          <p:cNvPicPr/>
          <p:nvPr/>
        </p:nvPicPr>
        <p:blipFill>
          <a:blip r:embed="rId2"/>
          <a:stretch/>
        </p:blipFill>
        <p:spPr>
          <a:xfrm>
            <a:off x="5181480" y="4135320"/>
            <a:ext cx="2590920" cy="2713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lia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ings that followed John (Magna Carta) met regularly with a group of nobles and church official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s group of advisors grew into a representative lawmaking body by the late 1300’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ventually divided into two groups or houses (House of Lords and House of Commons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on La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nder this system, the law is based upon court precedents and/or ruling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ver time, this led to a consistency in the interpretation of law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glish citizens, including American colonists, became accustomed to a court system and the stability of the law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ideo Link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ttp://videos.howstuffworks.com/hsw/5377-the-american-revolution-the-magna-carta-video.ht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ttp://videos.howstuffworks.com/hsw/23562-the-american-constitution-the-petition-of-right-video.ht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inks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ttp://videos.howstuffworks.com/hsw/23565-the-american-constitution-the-glorious-revolution-video.ht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3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ritish citizens, including the American colonists, had many political righ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se rights developed gradually over a very long period of tim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oblems in the American colonies will begin when these rights are violated and/or ignore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14" name="Picture 5" descr=""/>
          <p:cNvPicPr/>
          <p:nvPr/>
        </p:nvPicPr>
        <p:blipFill>
          <a:blip r:embed="rId1"/>
          <a:stretch/>
        </p:blipFill>
        <p:spPr>
          <a:xfrm>
            <a:off x="5934240" y="31680"/>
            <a:ext cx="3209760" cy="2102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Development of Righ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ree documents were very important in the development of right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se documents include: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gna Carta 1215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609480" y="59230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ing John signing the Magna Cart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19" name="Picture 2" descr=""/>
          <p:cNvPicPr/>
          <p:nvPr/>
        </p:nvPicPr>
        <p:blipFill>
          <a:blip r:embed="rId1"/>
          <a:stretch/>
        </p:blipFill>
        <p:spPr>
          <a:xfrm>
            <a:off x="1622520" y="2057400"/>
            <a:ext cx="5159160" cy="3865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tition of Right 1628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1" name=""/>
          <p:cNvSpPr txBox="1"/>
          <p:nvPr/>
        </p:nvSpPr>
        <p:spPr>
          <a:xfrm>
            <a:off x="658800" y="5486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xecution of Charles I (1649) – his rule caused the Petition of Righ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22" name="Picture 3" descr=""/>
          <p:cNvPicPr/>
          <p:nvPr/>
        </p:nvPicPr>
        <p:blipFill>
          <a:blip r:embed="rId1"/>
          <a:stretch/>
        </p:blipFill>
        <p:spPr>
          <a:xfrm>
            <a:off x="784080" y="1523880"/>
            <a:ext cx="7521840" cy="4037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glish Bill of Rights 1689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2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5410080" cy="4114800"/>
          </a:xfrm>
          <a:prstGeom prst="rect">
            <a:avLst/>
          </a:prstGeom>
          <a:ln w="0">
            <a:noFill/>
          </a:ln>
        </p:spPr>
      </p:pic>
      <p:pic>
        <p:nvPicPr>
          <p:cNvPr id="2125" name="Picture 2" descr=""/>
          <p:cNvPicPr/>
          <p:nvPr/>
        </p:nvPicPr>
        <p:blipFill>
          <a:blip r:embed="rId2"/>
          <a:stretch/>
        </p:blipFill>
        <p:spPr>
          <a:xfrm>
            <a:off x="2743200" y="990720"/>
            <a:ext cx="2828880" cy="5715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Each of these documents is important because they grant specific rights and place limitations on the power of the monarch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ights of British Citize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me of the rights gained from these documents include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idea that no one, including the monarch, is above the la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rial by a jury of pee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o taxes without the consent of Parlia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o imprisonment without tri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o “quartering of soldiers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ights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o martial law in time of pea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ree elections for Parliame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Right to a fair trial (due process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o cruel and unusual punishme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reedom to petition the governme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reedom of speech and the right to debat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abeas Corpu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right to private proper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ysAdmin</cp:lastModifiedBy>
  <dcterms:modified xsi:type="dcterms:W3CDTF">2011-08-31T14:01:39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